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78F-2292-4CB1-AB2A-6BB2044B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D9E-EB26-4B42-8AC3-FB1F00D4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FAE-8EA9-419F-9921-25584B7A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623-3383-4725-8405-0265EEBD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AC44-8CDC-488C-91AC-FD425EDE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7570-761E-43AC-BEE4-AEDA68D7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87C6-2044-4258-B9B7-7574A847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36E7-D02C-49E4-ADBB-E9870ECD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ABB3-EACF-47B6-B24E-5BB2BCC7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86C3-5678-42FC-90B6-41DECEE6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2777-4E61-4C18-AC43-1B3111CD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784-9CF6-427D-AFCE-0B5EB34B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38A4-E0B7-4401-803A-2CEB7059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1C60-F7E8-48DE-A3E3-F01DB0F2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5D71-EF3E-40E0-95C3-FB3FF74E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965F-A673-4356-BF46-81D53A01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484C-8DC5-4F15-A006-7EEF1D72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0C3-29EA-48FD-9E35-C3C330A4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D16-E22A-4148-B0F8-5A71E3AD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413-8740-407A-B410-511BC808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556-4D84-43D5-A5AA-14331751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E03-AA8C-4449-8028-C7FDFFF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EE2-1F8F-4D96-9C06-B4DCEC3A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F4E-01D7-4325-90AF-E2D17F8C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39480" indent="-33948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339480" indent="-3394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339480" indent="-3394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339480" indent="-3394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339480" indent="-3394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339480" indent="-3394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0BDC-84CE-4FA4-815B-447F7155FC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3C4E-33A9-428A-A2CE-2DF7C4F5E2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Unit #5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lyatomic Ions / Mole / Molarity / Electrochemist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8558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will represent ions the same way with two exceptions (con’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0481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If the atom has less than 4 valence electrons; we will remove as many electrons as needed to move back to the nearest noble gas core. A total of 8 valence electrons. (This will give the ion an Octet of valence electron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nd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fter the "atomic symbol" of the ion, in the upper right corner of the symbol, we will write a positive sign (or digit, if more than one) for each additional electron we subtracted to achieve the nearest noble gas core. An octet of valence electr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nd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#1:  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nd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#2:  Alumin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nd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#3:  Bar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Polyatomic ion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type of ion made of more than 2 atoms. These will also be classified as either an anion or a ca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4 steps to drawing  polyatomic ion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lvl="2" marL="1017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ep 1)    Determine and write down the "4 key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  numbers".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1587600" y="388620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se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93520" y="3951360"/>
            <a:ext cx="36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"4 key numbers”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(con’t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305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”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# of protons (add up the atomic number of all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volved atom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1148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e”    </a:t>
            </a:r>
            <a:r>
              <a:rPr b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# of total electrons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(add up the atomic numbers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(which equals the number of total electrons in a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eutral atom) of all atoms in the 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"4 key numbers”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(con’t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305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”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halkboard"/>
              </a:rPr>
              <a:t># of core electrons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atomic number minus th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umber of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"s" and "p" electrons in the highest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nergy lev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1148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v”    </a:t>
            </a:r>
            <a:r>
              <a:rPr b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# of valence electrons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(determined by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ubtracting the # of core electrons from the #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f total electr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2377440" y="17524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the "skeleton" of the 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3320" y="2743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74320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Give all atoms eight electrons (except Hydrogen, it only wants two), (remember each bond (represented by a dash) counts as 2 electr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s unit builds upon previous topic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 Dot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ctet Ru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144792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4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1752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Count the number of electrons drawn and compare this to the calculated number ("Key number #4”   the   “v”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276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djust as necessary by adding double or triple bonds to reduce the number of electrons while still ensuring all atoms still have an octet of valence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4400" y="517536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Draw brackets and valence charge to fin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1752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17575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mmon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19800" y="175248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rbo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92880" y="175248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yan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Mole Concept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Mole 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amount of substance that contains Avagadro's number of particles of that substanc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2248920" y="4440240"/>
            <a:ext cx="56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bbreviated: mol.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m, M,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vagadro's number 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s is equal to 6.02 *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42900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It is specifically the number of 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  <a:ea typeface="ＭＳ Ｐゴシック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atoms in 12 grams (the chart mass in grams) of this isot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495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ink of this word like the word "Dozen", which always means twelve. Well this number always means 6.02 *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  <a:ea typeface="ＭＳ Ｐゴシック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p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tomic weight 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weighted average of the masses of the isotopes of an elemen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16080" y="3581280"/>
            <a:ext cx="86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Based on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  <a:ea typeface="ＭＳ Ｐゴシック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, 1 atom = 12 AMUs (atomic mass uni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48520" y="44956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MU 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495680"/>
            <a:ext cx="5638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bitrary unit equal to 1/12 the mass of a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om.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m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MU continue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magine if we had to determine the "weight" of everyone in the classroom, but, we didn't have a scale. We could select someone and then assign to that individual an arbitrary "weight" unit. We might say he/she weight 10 CRUs (Chem. Room Units). Everyone in the room will now be weighed relative to that studen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1055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e atomic weight of all elements is relative to the "weight" of carbon 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Gram Atomic Weight -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mass in grams of  1 mole of a substa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855720" y="33526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1: Hydro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61320" y="396252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atom weigh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15240" y="449568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e of hydro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eigh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2640" y="525780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ever what is special about Hydroge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55480" y="396252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0079 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0320" y="4495680"/>
            <a:ext cx="14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0079 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47720" y="52578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s di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formula for a molecule of Hydrogen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54160" y="304812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ecule of Hydrogen weigh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50560" y="457200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e of Hydrogen gas weigh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7360" y="2320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07760" y="3546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.0158 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9920" y="5105520"/>
            <a:ext cx="14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.0158 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 #2: 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998280" y="273672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ecule of Carbon dioxide weigh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09080" y="4191120"/>
            <a:ext cx="51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e of Carbon dioxide weigh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95360" y="33526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4.0098 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5600" y="48006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4.0098 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member: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990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on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666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n atom or group of atoms that has either lost or gained electron(s) and as a result has an electric char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6760" y="418464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ation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45880" y="418464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ositively charged 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794120"/>
            <a:ext cx="12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nion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28600" y="479412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negatively charged 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 sure you are aware of what you are working with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2877120" y="3581280"/>
            <a:ext cx="30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s or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7480" y="457200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MUs or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Molarity 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concentration unit i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moles / liter.   (The liter is usually water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918720" y="5257800"/>
            <a:ext cx="73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bbreviated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NOT mol, M, m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ＭＳ Ｐゴシック"/>
              </a:rPr>
              <a:t>m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3581280"/>
            <a:ext cx="61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e that the numerator is # of moles. We will learn how to convert this to grams in the next top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DIMO 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acronym that means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vid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ltip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038480"/>
            <a:ext cx="68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is a drawing that you have to be able to reproduce and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0800000">
            <a:off x="609480" y="1218600"/>
            <a:ext cx="76320" cy="1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1752480"/>
            <a:ext cx="3657600" cy="35816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75680" y="3276720"/>
            <a:ext cx="1692360" cy="459720"/>
          </a:xfrm>
          <a:prstGeom prst="rect">
            <a:avLst/>
          </a:pr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m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57960" y="1600200"/>
            <a:ext cx="1741320" cy="459720"/>
          </a:xfrm>
          <a:prstGeom prst="rect">
            <a:avLst/>
          </a:pr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70000" y="1600200"/>
            <a:ext cx="2043000" cy="459720"/>
          </a:xfrm>
          <a:prstGeom prst="rect">
            <a:avLst/>
          </a:pr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p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35320" y="5486400"/>
            <a:ext cx="2741040" cy="459720"/>
          </a:xfrm>
          <a:prstGeom prst="rect">
            <a:avLst/>
          </a:pr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liters of a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2057400"/>
            <a:ext cx="1828800" cy="121932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554360" y="2084760"/>
            <a:ext cx="1864080" cy="116424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3809880"/>
            <a:ext cx="0" cy="167652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026800">
            <a:off x="2881440" y="2286000"/>
            <a:ext cx="17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hart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9652400">
            <a:off x="4435560" y="220932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Avagadro’s 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57640" y="43434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22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 Steps to use the DIMO chart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)       Determine the chart mass of th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bstance you're working wit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81000" y="3657600"/>
            <a:ext cx="85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)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Deal with the concentration of that sub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419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)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Deal with the volume of the solution you'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orking wi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080" y="541008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)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Use "DIMO" to sol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70160" y="1600200"/>
            <a:ext cx="77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How many grams of NaOH are in 1 liter of a 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solution of the NaO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0280" y="16002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3120" y="2971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3160" y="2971800"/>
            <a:ext cx="39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termine the chart m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6936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1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57280" y="220968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6880" y="30481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33960" y="304812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al with the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6936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1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57280" y="220968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4688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43600" y="266688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6880" y="35053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23080" y="3505320"/>
            <a:ext cx="32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al with the volu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6936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1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57280" y="220968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688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3600" y="266688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6880" y="31240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04360" y="31240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 of NaOH in sam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46880" y="38862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04440" y="38862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"DIMO"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2286000"/>
            <a:ext cx="77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How many grams of NaOH are in 1 liter of a 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solution of the NaO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7480" y="160020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lution to Exampl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733920"/>
            <a:ext cx="70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 are 40 g of NaOH in 1 liter of a 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lution of NaO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call how we represented atoms with the electron dot nota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3581280"/>
            <a:ext cx="22096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70160" y="1600200"/>
            <a:ext cx="7773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0.75 liters of a 0.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solution contains how many grams of C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760" y="16002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23120" y="2971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13160" y="2971800"/>
            <a:ext cx="39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termine the chart m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9348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2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90320" y="22096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11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6880" y="30481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33960" y="304812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al with the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348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2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90320" y="22096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11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4688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0240" y="2666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.5 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6880" y="35053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23080" y="3505320"/>
            <a:ext cx="32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al with the volu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348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2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90320" y="22096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11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4688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70240" y="2666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.5 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6880" y="31240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37480" y="3124080"/>
            <a:ext cx="431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.375 mol of C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sam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46880" y="38862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04440" y="38862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"DIMO"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2286000"/>
            <a:ext cx="7774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How many grams of C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are in 0.75 liter of a 0.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solution of the C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1600" y="160020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lution to Example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3733920"/>
            <a:ext cx="7075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 are 41.625 g of C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0.75 liter of a 0.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olution of C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ice in the previous examples we calculated the number of  grams of a substa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next example, we will determine how many moles of a substance are in a given volume of a solu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70160" y="1600200"/>
            <a:ext cx="77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hat is the Molarity of a solution created by dissolving 150 grams of  NaI  into 250 mL of distilled wa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4760" y="16002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23120" y="2971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13160" y="2971800"/>
            <a:ext cx="39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termine the chart m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348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3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38560" y="22096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0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6880" y="30481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33960" y="304812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al with the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348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3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38560" y="22096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0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688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09840" y="26668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0 g / 0.25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46880" y="35053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23080" y="3505320"/>
            <a:ext cx="32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al with the volu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348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3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38560" y="22096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0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4688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09840" y="26668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0 g / 0.25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6880" y="31240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00120" y="31240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0 g / 1 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6880" y="38862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04440" y="38862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"DIMO"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8558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will represent ions the same way with two exce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812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1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If the atom has at least 5, but less than 8 valence electrons; we will draw as many additional electrons as needed to acquire a total of 8 valence electrons. (This will give the ion an Octet of valence electron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09480" y="2286000"/>
            <a:ext cx="77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hat is the Molarity of a solution created by dissolving 150 grams of  NaI  into 250 mL of distilled wa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1600" y="160020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lution to Example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267080"/>
            <a:ext cx="70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 are 4 moles of NaI in 1 liter of 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lution of Na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65360" y="525780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fore the molarity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23120" y="5257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91080" y="525780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59960" y="358128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0 g of NaI is 4 m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905120"/>
            <a:ext cx="8915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ing the number of particles (atoms or molecules) is done the same way: except you would divide or multiply in or out by "Avagadro's number"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will get practice doing this on your study guid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st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fter the "atomic symbol" of the ion, in the upper right corner of the symbol, we will write a negative sign (or digit, if more than one) for each additional electron we added to achieve the nearest noble gas core. An octet of valence electron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st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352680" y="3276720"/>
            <a:ext cx="2590920" cy="220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36320" y="25081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#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st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360800" y="25081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#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87600" y="2514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st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360800" y="25081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#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4240" y="2514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1:59:44Z</dcterms:created>
  <dc:creator>PA Department of Education</dc:creator>
  <dc:description/>
  <dc:language>en-US</dc:language>
  <cp:lastModifiedBy>PA Department of Education</cp:lastModifiedBy>
  <dcterms:modified xsi:type="dcterms:W3CDTF">2008-03-04T13:59:17Z</dcterms:modified>
  <cp:revision>72</cp:revision>
  <dc:subject/>
  <dc:title>Unit #5 </dc:title>
</cp:coreProperties>
</file>